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522-F3BB-47A8-BBAB-C5A5D7EE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CD2-C15C-4D9F-A66B-5627DFBD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0E9-52D2-4E1A-939E-F734CDA7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E6C-F1A1-4B31-90D7-7931DA29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77F4-5985-4AC5-8493-2674DCD6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813C-D050-4D7A-A12F-472B9CC0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A524-6B76-47BD-BAF1-5C520625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AC04-3A63-4660-8C28-156DC3DB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4A63-757C-4D0F-90BC-5675B75C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25E0-6703-40ED-B218-1747410A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DD3F-CB92-4B6C-BD9A-90655BEE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CA3-6057-4D5E-A597-F45098AA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2BA2-9A17-4738-8E0C-3228AE2C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8912-0E25-4F3F-BB4B-EE0582F8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6132-2C8A-4D0F-A09F-D9744403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4929-E13F-497F-A42F-8A4FA201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D6B2-E22F-4368-A5D0-06C2E46B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1F7-2178-4C76-AAE2-F56B45E8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DDC-7528-48C9-8979-646F46E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BDB-83BB-4746-92C5-4D4A8861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7E7-88B2-4996-8EC1-8D5E3E84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6FF-0B5B-4814-9324-9B6B4588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BD6-792C-40EF-A7DC-8EACE08A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DF8-2CC9-47C7-B37A-DA69FC12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F046-77B7-4EA9-BC3B-8639FAD2D709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28E3-6B12-49CD-B728-001198D605AB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esarrollo de un simulador de mercado para la gestión de categorías en supermercados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lejandra Puente 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568008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79L Preparación de Tesis    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imavera 2004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oftware especializado y amigable que permita mostrar los efectos de decisiones que tomen los administradores de categorías, sin riesgo de pérdidas de diner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154240" cy="2530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315920" y="5638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152280"/>
          <a:ext cx="8381880" cy="63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38188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álisis y evaluación de los proyectos pilotos de Administración por Categorías en Chile”, Oscar Arce G. (2000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formación proporcionada por Verónica Moreno P. (tesista MGO, DII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mMarket: Multiagent-Based Customer Simulation and Decision Support for Category Management”,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ndt Schwaiger and Björn Stahmer. M. Schillo et al. (Eds.): MATES 2003, LNAI 2831, pp. 74–84, 2003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dministración por categorías, el caso de Industrias de Maíz y Alimentos y Supermercados Bravo”, Christian Paz G. (1999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3137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CR (Efficient Customer Respons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ategory Manag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ctualmente hay tesis y memorias relativas al t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286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de herramienta amigable para capacitación de A.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pecíf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omar como base trabajos realizados y extraer los resultados útil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ntender y “Traducir” los resultados para incorporarlos en el diseñ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tegrar los modelos y variables relevantes en el desarroll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00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visión bibliográfica y trabajos actu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udiar modelos de comportamiento de compra y aplicabilidad al caso en estudio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Variables y reglas relevan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preliminar del simulador de merc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Traspaso a código y depur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de Manual de Usu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v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reve revisión de trabajo de tesis exist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odelación en Exte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parada la generación de datos y las corridas de simulación para decisiones de los A.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deben copiar y pegar los datos manualmente a planillas excel y en algunos casos formato tx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greso de parámetros se debe hacer “dentro” del model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7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95816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ici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38080" y="1066680"/>
          <a:ext cx="7162920" cy="55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9581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mulación para el jue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2666880"/>
          <a:ext cx="838224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838224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Y de la literatura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ara satisfacer las necesidades de los clientes hay que conocerlos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imMarket: Simulación de consumidores individuales basados en sistema multi-agente y que incorpora factores extern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Utiliza redes de comportamiento (Bayesian nets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modelan utilizando data mining (datos de tarjetas de cliente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0020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8:59:36Z</dcterms:created>
  <dc:creator>Alejandra Puente Ch.</dc:creator>
  <dc:description/>
  <dc:language>en-US</dc:language>
  <cp:lastModifiedBy>julie lagos</cp:lastModifiedBy>
  <dcterms:modified xsi:type="dcterms:W3CDTF">2004-10-22T14:10:09Z</dcterms:modified>
  <cp:revision>9</cp:revision>
  <dc:subject/>
  <dc:title>Desarrollo de un simulador de mercado para la gestión de categorías en supermercados  </dc:title>
</cp:coreProperties>
</file>